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F33-43E9-4EF5-BB7A-6C1C8EB2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52F-0106-49FB-A914-000C7D11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675-21DE-48C0-967C-A00AC7F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567-C054-448F-B8C2-2627996E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319-9903-455B-973B-89AC6761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9BA5-13E7-42EB-8ACC-E0F7839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392A-8691-4704-A389-C7E3D846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A283-D287-4867-9923-5C2ECC03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4F6D-611D-45CC-BA1A-2E20F36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5A2E-D9C9-4F71-BE84-150C59C9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780-A5B3-4E40-8531-90FDFAA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0DE-8FBD-441F-8C90-C918E8DC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6C7C-2BC9-4142-90D8-38C7534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32F5-2CCA-4A31-B0D4-7F46C54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F06A-D893-45DF-9F8D-146A6220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C6CA-FA2A-409D-884C-5A53897B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5BB-2B4E-4EAA-90E7-808A1115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57B-7540-4FBC-9695-366A526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BD6-47B3-4F3B-9B26-388F52F5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722-AA06-4199-BFF1-D98E47E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E30-B566-4EFB-9B62-8123794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21A-E19F-42BD-99C0-F71C180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1CE-5ECF-4A6F-B165-4F51CBE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E72-75AF-4F25-977F-C3C22A5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8FC-CA76-491B-9A87-402788349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BA2-2156-435D-843A-7AEAF22D5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ommon Communicable Diseas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2: Lesson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ccination Schedules p. 34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1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ing Common Communicable Diseases p. 3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venting the Spread of Disea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ng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close contact with people who are 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 share eating utensils, dishes, or glasses with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 your hands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your hands away from your mouth, nose, and e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old and flu sufferers to cover their mouths and noses when they cough or snee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proper precautions against known dangers, follow safe practices in handling, preparing, and storing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gure 12.6 Washing Away Germs p. 34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tecting Oth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medical treatment if you need it. Delaying a visit to the doctor can allow your condition to wor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 your mouth and nose when you cough or snee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ill, stay home from school during the contagious period of the disease, and avoid close contact with other people. Wash your hands frequ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aking a prescribed medication, follow the directions carefully. Take all of the medication—don’t stop taking it just because you feel be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other people to follow wise health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veloping a health lifestyle p. 34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a well-balanced, nutritious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regul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dequate amount of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hower or bath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use alcohol or other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sm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hat you are vaccinated against diseases for which vaccines ex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manage st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rsonal Inventory p. 3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o be done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when comple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Bell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5334120"/>
            <a:ext cx="800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iefly explain how each item can help them avoid or treat communicable diseas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268596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1357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Health Goal # 3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be aware of immunizations that protect health. P. 3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on Communicable Diseases p. 34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old is the most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miss school more often because of colds than for nay other medical reason. Colds are also the most common reason for workers to miss days on the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adults get at least two or three colds a year. Children and young adults get about two to three times as many colds as ad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are colds so comm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ason is that they are spread in several 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contact is a common means of spreading cold germs—touching objects or surfaces that someone with a cold has previously handled, and then touching your mouth, nose, or ey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so get cold germs through direct contact-shaking hands for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other reason colds are so comm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s may be caused by hundreds of difference vir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y no vaccine has been develo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ccine that would give you immunity to one cold virus would not protect you against all the other viruses. You would need a different vaccine for each on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about the Flu p. 34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za – a communicable disease characterized by fever, chills, fatigue, headache, muscle aches, and respiratory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u usually begins more abruptly than a cold and lasts longer. The flu is spread by airborne germs as well as through direct and indirect cont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her Communicable diseases p. 34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 P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gure 12.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nucle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7:40:36Z</dcterms:created>
  <dc:creator>Hope Whiting</dc:creator>
  <dc:description/>
  <dc:language>en-US</dc:language>
  <cp:lastModifiedBy>Hope Whiting</cp:lastModifiedBy>
  <dcterms:modified xsi:type="dcterms:W3CDTF">2011-06-21T18:01:56Z</dcterms:modified>
  <cp:revision>3</cp:revision>
  <dc:subject/>
  <dc:title>Common Communicable Diseases</dc:title>
</cp:coreProperties>
</file>